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CF17-BA0C-495F-B190-FA1B4386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2B07-E846-408A-B38A-1F31FD0C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B9F9-DCD4-4246-9604-44377E58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7130-2E77-401F-BABD-832DC61F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6443-673B-4082-BB6B-136C913B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19A8-E242-45F2-9A6E-1E83A8F5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FB9B-82F1-4758-A9D2-681F9E92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A0C0-F964-4633-9FE9-66440169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0DAD-8613-49BB-B4C3-459B198B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5172-4DC0-4E7A-AC68-9C175283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0E49-C059-4862-99CD-D2E132F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01F1-E5FF-469E-93AC-19E2D845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3B2A-EF2B-46CF-BF2F-5B0A5560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6613-96A6-4514-8684-040ABEAF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C13D-42B7-4A19-B2FF-F8449417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6CA2-7A06-4C6C-9AEF-495E2082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EC34-1760-45C4-90D8-37099750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604A-4B59-4C00-98FF-084DB1AD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EBA7-C604-42CF-A39F-63A7E670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E6E1-0A2C-4A12-94FE-118BE953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6D80-6DE8-4F88-A188-ABB34A2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58D9-BDD9-4089-B3C5-8153CB4C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01FF-55E1-44E1-A448-9BADD71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FF70-66FD-4F56-82DA-8F98144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C76B-ABBD-40D5-B94D-D4C7DADBF58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8BCF-027D-4F81-BFDC-7BADDA52BB4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63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43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традаш ли, брате, от плътска похот, чуй наший глас, сдружи се с нас! Връзки махни, остави тоз живот! Брате, ела, с нас ел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Бог ще дойде със теб, опълч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против врага е въоръжен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ързай, реши се, бъди дръзновен! Брате, ела, ей, е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Скърби и бедствия носи грехът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 наший глас, сдружи се с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а под сигурна, свята стрех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рате, ела с нас, ел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руг ден, о, брате, недей тъй губ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не прави дома твой да скърб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 им умилните, жарки молб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рате, ела, ей, е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-22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лаб си, брате, но Бог е любов! Чуй наший глас, сдружи се с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е със помощ и сила готов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рате, ела, с нас ел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единени, напред ще върви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тив греха в боя лют, нескончим; най-после врага ще ние победим! Брате, ела, ей, ел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02:12Z</dcterms:modified>
  <cp:revision>198</cp:revision>
  <dc:subject/>
  <dc:title>Slide 1</dc:title>
</cp:coreProperties>
</file>